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0410F-B75C-4256-AE6B-3858CFA3B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AA224-7B07-46DF-88F2-22F23425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6D80F-A662-4483-A1AD-367F08EF0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2CBB4-F2FD-4326-9430-B4AE6F440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60D5-31E9-4CF7-BAE0-2E5CA5DBF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3D24-AEFB-4C15-9DAB-37FC5E69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7623-A994-478A-928D-D2452F5A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6C5B-66D3-4761-BC70-1A7B03EC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ABCC-27FB-48B4-93BE-460A8AB7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C0A5-FFFB-42A6-B319-7D297E29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F8C7-AAE3-4C76-B49A-B398870D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0D6B6-36A5-4CF0-90F8-76749739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726E-2544-49E6-AA93-14D8B757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63B8-929D-4190-9663-790CA1A8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E110-1686-4DDF-AF51-8DFB1ADC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D148-1E0E-4648-9505-B185A426A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0447-03F2-423B-A87D-B38BEE0F0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F9CDE-A229-409A-86C5-4C19C55E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6963D-C508-40AC-BB83-E2A1179B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F2332-792E-4E12-87A2-D9E583DE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2D27C-0F53-4A12-A7DE-2D6F83CD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DC7A0-DFF7-423C-95D0-CC57339D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13BD6-28B2-4399-BDC3-DEF6B44D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C4D8D-F050-49D3-95DD-7038E6E4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70D1-614C-44F1-A7F0-1C56B5C295E5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764D-8CF0-4E83-B049-6450F238BB19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159F-355F-4EFE-AA80-0740262118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1 p27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wavelength of the green light from a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signal is centred at 522 nm. What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frequency of this rad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56536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637000"/>
            <a:ext cx="720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22 n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22 x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4000" y="4508640"/>
                <a:ext cx="795636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/s       OR 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5872A-9719-49D0-AE55-45B13DF4C0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50920" y="1314360"/>
                <a:ext cx="8424720" cy="29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efix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ke the power with its sign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522 n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 m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2 n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nm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522 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765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t Con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69E6A-692B-4FD0-80B4-48D46E26D8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571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 photon has a frequency of 6.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Hz. Convert this frequency into wavelength (nm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773360"/>
            <a:ext cx="8640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z =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/s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(nm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0920" y="3573360"/>
                <a:ext cx="231624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50920" y="162864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916360" y="3645000"/>
                <a:ext cx="5976720" cy="25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Prefix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verse the sign of the power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1m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 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nm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x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n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D3FD4-CD94-43A2-AD19-E3F2D76A4C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Quantum Theory and Electronic Structure of Atoms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276-31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312-3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7.3, 7.8, 7.16, 7.18, 7.32, 7.34,  7.120, 7.56, 7.58, 7.62, 7.66, 7.70, 7.76, 7.78, 7.79, 7.84, 7.88, 7.90, 7.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34597-1859-46FC-8BD9-BD2EB799B5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7 Quantum Theory and Electronic Structure of Atoms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7.1 From Classical Physics to Quantu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7.3 Bohr’s Theory of the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7.6 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.7 Atomic Orbital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8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  <a:ea typeface="Times New Roman"/>
              </a:rPr>
              <a:t>7.9 The Building-Up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84924-759C-413B-880E-6FE12339C3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7.1 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From Classical Physics to Quantum Theo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ntury : understanding atoms and molecules was unsuccess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assical Phys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acroscopic Phenomena, e.g. pressure of th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icroscopic phenomena, e.g. atoms &amp;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ssumed that energy is continuous and any amount of energy could be released or absorbed in a radia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x Planks in 1900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covered that atoms and molecules emit energy only in certain discrete quantities (called quanta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943760" y="4508640"/>
            <a:ext cx="1092240" cy="16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CCFF0-0B5E-4800-8ABD-037E2AB87E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1"/>
          <p:cNvSpPr/>
          <p:nvPr/>
        </p:nvSpPr>
        <p:spPr>
          <a:xfrm>
            <a:off x="252360" y="412920"/>
            <a:ext cx="889164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v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wave ha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peak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قمة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rough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  <a:cs typeface="Times New Roman"/>
              </a:rPr>
              <a:t>ق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Wavelength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λ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distance between identical points on successive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Amplitude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vertical distance from the midline of a wave to the peak or t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460" r="0" b="6706"/>
          <a:stretch/>
        </p:blipFill>
        <p:spPr>
          <a:xfrm>
            <a:off x="3774960" y="3500280"/>
            <a:ext cx="5334120" cy="308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0" t="2087" r="0" b="8337"/>
          <a:stretch/>
        </p:blipFill>
        <p:spPr>
          <a:xfrm>
            <a:off x="104760" y="3500280"/>
            <a:ext cx="3213000" cy="31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447840" y="3576600"/>
            <a:ext cx="5460840" cy="1866960"/>
            <a:chOff x="447840" y="3576600"/>
            <a:chExt cx="5460840" cy="1866960"/>
          </a:xfrm>
        </p:grpSpPr>
        <p:sp>
          <p:nvSpPr>
            <p:cNvPr id="119" name=""/>
            <p:cNvSpPr/>
            <p:nvPr/>
          </p:nvSpPr>
          <p:spPr>
            <a:xfrm>
              <a:off x="447840" y="3919320"/>
              <a:ext cx="175248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95880" y="4910040"/>
              <a:ext cx="9144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9880" y="35766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0440" y="3957480"/>
            <a:ext cx="6997680" cy="2044800"/>
            <a:chOff x="460440" y="3957480"/>
            <a:chExt cx="6997680" cy="2044800"/>
          </a:xfrm>
        </p:grpSpPr>
        <p:sp>
          <p:nvSpPr>
            <p:cNvPr id="123" name=""/>
            <p:cNvSpPr/>
            <p:nvPr/>
          </p:nvSpPr>
          <p:spPr>
            <a:xfrm>
              <a:off x="460440" y="4338720"/>
              <a:ext cx="22860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29520" y="3957480"/>
              <a:ext cx="228600" cy="609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2000" y="5392800"/>
              <a:ext cx="30492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CD979-E964-4B15-925D-C62BE47146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tent Placeholder 1"/>
          <p:cNvSpPr/>
          <p:nvPr/>
        </p:nvSpPr>
        <p:spPr>
          <a:xfrm>
            <a:off x="252360" y="412920"/>
            <a:ext cx="87123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Frequency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ν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umber of waves that pass through a particular point in 1 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tz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) = 1 cycle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 = 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Speed (u)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a product of the wave’s wavelenght and its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92360" y="4365720"/>
                <a:ext cx="15843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96C9C-80EB-40ED-9E33-746404BE20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magnetic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ves are different kinds, e.g. water waves, sound waves, and light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1873 James Maxwel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posed that visible light consists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ctric field compon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agnetic field compon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magnetic radi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emission and transmission of energy in the form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3150360" y="1538640"/>
            <a:ext cx="647640" cy="5148360"/>
          </a:xfrm>
          <a:custGeom>
            <a:avLst/>
            <a:gdLst>
              <a:gd name="textAreaLeft" fmla="*/ 0 w 647640"/>
              <a:gd name="textAreaRight" fmla="*/ 234000 w 647640"/>
              <a:gd name="textAreaTop" fmla="*/ 133920 h 5148360"/>
              <a:gd name="textAreaBottom" fmla="*/ 5014440 h 51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24720" y="2997360"/>
            <a:ext cx="1200240" cy="143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CEF7A-8957-485A-B9B4-AA3AC9E4C9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533600"/>
            <a:ext cx="5543640" cy="3479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magnetic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07060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ed of light (c) in vacuum =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x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44880" y="5684760"/>
                <a:ext cx="42256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C0684-29B9-473B-9D0A-56F6F21B83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991720" cy="5562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533680" y="2500200"/>
            <a:ext cx="4786200" cy="2576520"/>
            <a:chOff x="2533680" y="2500200"/>
            <a:chExt cx="4786200" cy="2576520"/>
          </a:xfrm>
        </p:grpSpPr>
        <p:sp>
          <p:nvSpPr>
            <p:cNvPr id="140" name=""/>
            <p:cNvSpPr/>
            <p:nvPr/>
          </p:nvSpPr>
          <p:spPr>
            <a:xfrm flipH="1">
              <a:off x="2533680" y="2514600"/>
              <a:ext cx="1324080" cy="25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00400" y="2500200"/>
              <a:ext cx="3219480" cy="254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B2A9E-3D86-479B-B141-FBD7763571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8Z</dcterms:modified>
  <cp:revision>940</cp:revision>
  <dc:subject/>
  <dc:title>General Chemistry CHEM 110</dc:title>
</cp:coreProperties>
</file>